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9E2-1059-4312-BE58-6A1B627E8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685-416B-4A65-8A02-AA8799E2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AC2-4DF0-4783-BFB6-CEE32E85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0EA-CF94-4C26-A311-1A6F261D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FCE-3A9D-4961-8AA2-952255DE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47DD-4759-47E0-8BE5-075AC006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B8A9-9F2E-4999-BDAA-1D098960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CC9-0542-4FF0-8EEA-035AB581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ACD-60B4-4111-BE43-D5DC1B42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32D-8115-4B4F-82D1-A43D4AF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AE8-9325-4CD0-A64E-3F0989B8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BE1-214C-43C4-BD98-0E29DF4E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73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C3DC-A65F-4510-89F7-230D362EF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nsch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idemarie Houli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justin bieber.jpg"/>
          <p:cNvPicPr/>
          <p:nvPr/>
        </p:nvPicPr>
        <p:blipFill>
          <a:blip r:embed="rId1"/>
          <a:stretch/>
        </p:blipFill>
        <p:spPr>
          <a:xfrm>
            <a:off x="2971800" y="1600200"/>
            <a:ext cx="3048120" cy="4297320"/>
          </a:xfrm>
          <a:prstGeom prst="rect">
            <a:avLst/>
          </a:prstGeom>
          <a:ln w="0">
            <a:noFill/>
          </a:ln>
        </p:spPr>
      </p:pic>
      <p:pic>
        <p:nvPicPr>
          <p:cNvPr id="45" name="Recorded Sound" descr=""/>
          <p:cNvPicPr/>
          <p:nvPr/>
        </p:nvPicPr>
        <p:blipFill>
          <a:blip r:embed="rId2"/>
          <a:stretch/>
        </p:blipFill>
        <p:spPr>
          <a:xfrm>
            <a:off x="8899560" y="661356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46" name="Justin Bieber Ft Ludacris - Baby Instrumental [Free Download].mp3" descr=""/>
          <p:cNvPicPr/>
          <p:nvPr/>
        </p:nvPicPr>
        <p:blipFill>
          <a:blip r:embed="rId3"/>
          <a:stretch/>
        </p:blipFill>
        <p:spPr>
          <a:xfrm>
            <a:off x="0" y="66135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836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707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2:47:02Z</dcterms:created>
  <dc:creator>MK</dc:creator>
  <dc:description/>
  <dc:language>en-US</dc:language>
  <cp:lastModifiedBy>MK</cp:lastModifiedBy>
  <dcterms:modified xsi:type="dcterms:W3CDTF">2012-05-22T03:06:27Z</dcterms:modified>
  <cp:revision>2</cp:revision>
  <dc:subject/>
  <dc:title>Modenschau</dc:title>
</cp:coreProperties>
</file>